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gif" ContentType="image/gif"/>
  <Override PartName="/ppt/media/image5.wmf" ContentType="image/x-wmf"/>
  <Override PartName="/ppt/media/image6.png" ContentType="image/png"/>
  <Override PartName="/ppt/media/image7.jpeg" ContentType="image/jpeg"/>
  <Override PartName="/ppt/media/image8.gif" ContentType="image/gif"/>
  <Override PartName="/ppt/media/image9.png" ContentType="image/pn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271-1AB8-4E1A-A8DA-65472E40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DB85-14B8-4B28-B879-56463424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EBC-F8FF-4F05-A25B-69D3BAEC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B2F3-FED5-4BAD-941B-2F94FC2F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3B30-8F57-452A-BAE2-3B5DC81D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E255-CFD0-46B4-89D8-6F03AC56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7164-ED37-4C2A-895D-13C9EF5F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63B5-74BC-4E76-9290-E8926140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B92B-91B2-4E88-B9B2-79D8493A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29AE-52AA-496B-99D4-E6425E4B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D901-4162-4E98-9B73-986E396E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EFFD-07D7-41D6-A260-B619041E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FF0E-698F-4043-A0B1-CF163DD1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4DE6-0D56-4E19-934B-C399F007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D08D-BBA3-4243-A680-7D5510AD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FC28-9408-4EC8-B07F-99F5D1BA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1A49-339D-487B-A761-D8CCFC1D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D5C4-8DB9-43B6-AF1C-AD4BA953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6FB-34DA-4F76-80D0-17F70923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A446-2634-435F-B5A6-11C3D3A1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D50-2D2A-4BC6-A010-55892457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2AE0-9B5F-407D-A879-FB104B02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0CE4-AF15-44E1-BBC9-549FBE62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760F-016E-4987-8FC2-5047FF5E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494A-7F3A-4A19-94BF-95ACF42326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5B26-4715-4CF8-B053-45300A4558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362320" y="1905120"/>
            <a:ext cx="4952880" cy="18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6.1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平方根（二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477120" y="5105520"/>
            <a:ext cx="1371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  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0" y="0"/>
            <a:ext cx="5333400" cy="1282320"/>
            <a:chOff x="0" y="0"/>
            <a:chExt cx="5333400" cy="1282320"/>
          </a:xfrm>
        </p:grpSpPr>
        <p:sp>
          <p:nvSpPr>
            <p:cNvPr id="292" name=""/>
            <p:cNvSpPr/>
            <p:nvPr/>
          </p:nvSpPr>
          <p:spPr>
            <a:xfrm>
              <a:off x="363600" y="549000"/>
              <a:ext cx="4484880" cy="6098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108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69840" y="0"/>
              <a:ext cx="1090800" cy="1143000"/>
            </a:xfrm>
            <a:custGeom>
              <a:avLst/>
              <a:gdLst/>
              <a:ahLst/>
              <a:rect l="l" t="t" r="r" b="b"/>
              <a:pathLst>
                <a:path w="816" h="1296">
                  <a:moveTo>
                    <a:pt x="288" y="0"/>
                  </a:moveTo>
                  <a:lnTo>
                    <a:pt x="528" y="96"/>
                  </a:lnTo>
                  <a:lnTo>
                    <a:pt x="528" y="192"/>
                  </a:lnTo>
                  <a:lnTo>
                    <a:pt x="816" y="432"/>
                  </a:lnTo>
                  <a:lnTo>
                    <a:pt x="624" y="480"/>
                  </a:lnTo>
                  <a:lnTo>
                    <a:pt x="720" y="576"/>
                  </a:lnTo>
                  <a:lnTo>
                    <a:pt x="624" y="624"/>
                  </a:lnTo>
                  <a:lnTo>
                    <a:pt x="720" y="624"/>
                  </a:lnTo>
                  <a:lnTo>
                    <a:pt x="768" y="816"/>
                  </a:lnTo>
                  <a:lnTo>
                    <a:pt x="480" y="1056"/>
                  </a:lnTo>
                  <a:lnTo>
                    <a:pt x="384" y="1296"/>
                  </a:lnTo>
                  <a:lnTo>
                    <a:pt x="0" y="1296"/>
                  </a:lnTo>
                  <a:lnTo>
                    <a:pt x="0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aee4c9"/>
                </a:gs>
                <a:gs pos="100000">
                  <a:srgbClr val="ffff0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0"/>
              <a:ext cx="1090800" cy="1143000"/>
            </a:xfrm>
            <a:custGeom>
              <a:avLst/>
              <a:gdLst/>
              <a:ahLst/>
              <a:rect l="l" t="t" r="r" b="b"/>
              <a:pathLst>
                <a:path w="528" h="1200">
                  <a:moveTo>
                    <a:pt x="528" y="192"/>
                  </a:moveTo>
                  <a:lnTo>
                    <a:pt x="528" y="1200"/>
                  </a:lnTo>
                  <a:lnTo>
                    <a:pt x="240" y="1200"/>
                  </a:lnTo>
                  <a:lnTo>
                    <a:pt x="144" y="960"/>
                  </a:lnTo>
                  <a:lnTo>
                    <a:pt x="0" y="816"/>
                  </a:lnTo>
                  <a:lnTo>
                    <a:pt x="48" y="672"/>
                  </a:lnTo>
                  <a:lnTo>
                    <a:pt x="144" y="672"/>
                  </a:lnTo>
                  <a:lnTo>
                    <a:pt x="48" y="576"/>
                  </a:lnTo>
                  <a:lnTo>
                    <a:pt x="144" y="480"/>
                  </a:lnTo>
                  <a:lnTo>
                    <a:pt x="0" y="432"/>
                  </a:lnTo>
                  <a:lnTo>
                    <a:pt x="192" y="240"/>
                  </a:lnTo>
                  <a:lnTo>
                    <a:pt x="144" y="144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528" y="1200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fefdf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75720" y="457200"/>
              <a:ext cx="3757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学以致用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84920" y="0"/>
              <a:ext cx="969120" cy="1143000"/>
              <a:chOff x="484920" y="0"/>
              <a:chExt cx="969120" cy="1143000"/>
            </a:xfrm>
          </p:grpSpPr>
          <p:pic>
            <p:nvPicPr>
              <p:cNvPr id="29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84920" y="0"/>
                <a:ext cx="96912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605880" y="0"/>
                <a:ext cx="8478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3030480" y="701640"/>
              <a:ext cx="1454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0" y="1447920"/>
                <a:ext cx="8820000" cy="17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若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5</m:t>
                        </m:r>
                        <m:r>
                          <m:t xml:space="preserve">，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那么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e>
                        </m:rad>
                        <m:r>
                          <m:t xml:space="preserve">≈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　　　</m:t>
                            </m:r>
                          </m:e>
                        </m:bar>
                        <m:r>
                          <m:t xml:space="preserve">；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e>
                        </m:rad>
                        <m:r>
                          <m:t xml:space="preserve">≈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　　　　　</m:t>
                            </m:r>
                          </m:e>
                        </m:bar>
                        <m:r>
                          <m:t xml:space="preserve">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0" y="3962520"/>
                <a:ext cx="9144000" cy="21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若已知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9</m:t>
                        </m:r>
                        <m:r>
                          <m:t xml:space="preserve">，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；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那么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　　　　</m:t>
                            </m:r>
                          </m:e>
                        </m:bar>
                        <m:r>
                          <m:t xml:space="preserve">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2821680" y="228600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隶书"/>
              </a:rPr>
              <a:t>11.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327360" y="2286000"/>
            <a:ext cx="17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隶书"/>
              </a:rPr>
              <a:t>0.35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46440" y="5208480"/>
            <a:ext cx="15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隶书"/>
              </a:rPr>
              <a:t>74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743200" y="34920"/>
                <a:ext cx="289548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与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914400" y="609480"/>
            <a:ext cx="74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试比较                             的大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219320" y="1503360"/>
                <a:ext cx="31240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371600" y="2651040"/>
                <a:ext cx="259092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371600" y="5019840"/>
                <a:ext cx="335268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</m:t>
                    </m:r>
                    <m:r>
                      <m:t xml:space="preserve">: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371600" y="3733920"/>
                <a:ext cx="32004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952880" y="1600200"/>
                <a:ext cx="28195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12" name=""/>
          <p:cNvGraphicFramePr/>
          <p:nvPr/>
        </p:nvGraphicFramePr>
        <p:xfrm>
          <a:off x="6324480" y="3809880"/>
          <a:ext cx="22860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809880"/>
                    <a:ext cx="22860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56600" y="1600200"/>
            <a:ext cx="606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能力拓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486080" y="2906640"/>
            <a:ext cx="6325920" cy="16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今天你收获了什么？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《课堂十分钟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63160" y="76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堂清检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447920" y="1447920"/>
            <a:ext cx="5562000" cy="3580920"/>
            <a:chOff x="1447920" y="1447920"/>
            <a:chExt cx="5562000" cy="3580920"/>
          </a:xfrm>
        </p:grpSpPr>
        <p:grpSp>
          <p:nvGrpSpPr>
            <p:cNvPr id="320" name=""/>
            <p:cNvGrpSpPr/>
            <p:nvPr/>
          </p:nvGrpSpPr>
          <p:grpSpPr>
            <a:xfrm>
              <a:off x="1447920" y="1447920"/>
              <a:ext cx="5562000" cy="3580920"/>
              <a:chOff x="1447920" y="1447920"/>
              <a:chExt cx="5562000" cy="3580920"/>
            </a:xfrm>
          </p:grpSpPr>
          <p:pic>
            <p:nvPicPr>
              <p:cNvPr id="32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7920" y="1447920"/>
                <a:ext cx="5562000" cy="358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"/>
              <p:cNvSpPr/>
              <p:nvPr/>
            </p:nvSpPr>
            <p:spPr>
              <a:xfrm>
                <a:off x="3434040" y="2641680"/>
                <a:ext cx="3442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Times New Roman"/>
                    <a:ea typeface="华文行楷"/>
                  </a:rPr>
                  <a:t>作业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4069800" y="3178080"/>
              <a:ext cx="257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P47 5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、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、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191120" y="35053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35812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143000" y="609480"/>
            <a:ext cx="5257800" cy="184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祝学习快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960480" y="914400"/>
                <a:ext cx="78008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求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的整数部分和小数部分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990720" y="1981080"/>
                <a:ext cx="60498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的整数部分是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600200" y="2971800"/>
                <a:ext cx="754380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的小数部分是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2204640" y="4245120"/>
            <a:ext cx="46868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数部分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原数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―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整数部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80880" y="5562720"/>
                <a:ext cx="845820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思考：</m:t>
                    </m:r>
                    <m:r>
                      <m:t xml:space="preserve">7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的整数部分与小数部分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533520" y="2286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拓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8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8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685800" y="6480"/>
                <a:ext cx="6448320" cy="17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已知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，</m:t>
                        </m:r>
                      </m:e>
                      <m:e>
                        <m:r>
                          <m:t xml:space="preserve">求x</m:t>
                        </m:r>
                        <m:r>
                          <m:t xml:space="preserve">、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的值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762120" y="1828800"/>
                <a:ext cx="628488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由题意得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0" y="3962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已学习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非负数，即绝对值、偶数次方、算术平方根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。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几个非负数的和为零，它们就同时为零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然后转化为方程（或方程组）来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 rot="15754200">
            <a:off x="11721960" y="1347480"/>
            <a:ext cx="95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77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770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6" dur="77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用夹值法估计一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限不循环小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近似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会用计算器求一个数的算术平方根近似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探究被开方数扩大（或缩小）与它的算术平方根扩大（或缩小）的规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自学指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认真看课本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P41—P44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在自学过程中注意以下几个方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阅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41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探究”及下面的讲解时，注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页右边云彩图中的问题。体验“无限不循环小数”的含义及用夹值法的估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学会计算器的用法（同学之间进行研究、探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利用计算器完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4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的“探究”你能发现什么规律？试着用数学语言总结（比一比，这一环节谁最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10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分钟后进行检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一个数越大，它的算术平方根也越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701720"/>
            <a:ext cx="7772400" cy="1289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81280" y="182880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1.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924880" y="1295280"/>
            <a:ext cx="529560" cy="1329840"/>
            <a:chOff x="5924880" y="1295280"/>
            <a:chExt cx="529560" cy="1329840"/>
          </a:xfrm>
        </p:grpSpPr>
        <p:sp>
          <p:nvSpPr>
            <p:cNvPr id="93" name=""/>
            <p:cNvSpPr/>
            <p:nvPr/>
          </p:nvSpPr>
          <p:spPr>
            <a:xfrm>
              <a:off x="5924880" y="12952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24880" y="18000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43600" y="2016000"/>
              <a:ext cx="503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810080" y="17524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77360" y="18288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12240" y="365760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或者说：被开方数越大，对应的算术平方根也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91960" y="299880"/>
            <a:ext cx="5935680" cy="703440"/>
            <a:chOff x="291960" y="299880"/>
            <a:chExt cx="5935680" cy="703440"/>
          </a:xfrm>
        </p:grpSpPr>
        <p:sp>
          <p:nvSpPr>
            <p:cNvPr id="100" name=""/>
            <p:cNvSpPr/>
            <p:nvPr/>
          </p:nvSpPr>
          <p:spPr>
            <a:xfrm>
              <a:off x="672840" y="299880"/>
              <a:ext cx="5554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 </a:t>
              </a:r>
              <a:r>
                <a:rPr b="1" lang="zh-CN" sz="4000" spc="-1" strike="noStrike" u="sng">
                  <a:solidFill>
                    <a:srgbClr val="333399"/>
                  </a:solidFill>
                  <a:uFillTx/>
                  <a:latin typeface="华文行楷"/>
                  <a:ea typeface="华文行楷"/>
                </a:rPr>
                <a:t>折纸游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91960" y="348840"/>
              <a:ext cx="534960" cy="49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"/>
          <p:cNvGrpSpPr/>
          <p:nvPr/>
        </p:nvGrpSpPr>
        <p:grpSpPr>
          <a:xfrm>
            <a:off x="324000" y="949320"/>
            <a:ext cx="6137640" cy="2843280"/>
            <a:chOff x="324000" y="949320"/>
            <a:chExt cx="6137640" cy="2843280"/>
          </a:xfrm>
        </p:grpSpPr>
        <p:sp>
          <p:nvSpPr>
            <p:cNvPr id="103" name=""/>
            <p:cNvSpPr/>
            <p:nvPr/>
          </p:nvSpPr>
          <p:spPr>
            <a:xfrm>
              <a:off x="1389960" y="949320"/>
              <a:ext cx="50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如下图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一个面积为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正方形纸片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4000" y="1704960"/>
              <a:ext cx="2087280" cy="2087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68280" y="410040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否利用此折出面积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正方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1700280"/>
            <a:ext cx="2087640" cy="208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4822920"/>
            <a:ext cx="743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折出面积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正方形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62440" y="2762280"/>
            <a:ext cx="2736720" cy="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94160" y="1484280"/>
            <a:ext cx="0" cy="25210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67080" y="1738440"/>
            <a:ext cx="1008000" cy="10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76960" y="1741320"/>
            <a:ext cx="2087640" cy="208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2781360"/>
            <a:ext cx="2663640" cy="712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46880" y="1566720"/>
            <a:ext cx="0" cy="25210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21315600">
            <a:off x="6183360" y="2628720"/>
            <a:ext cx="1260360" cy="14414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6282720" y="1692000"/>
            <a:ext cx="1068480" cy="1103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7342200" y="1738440"/>
            <a:ext cx="1030320" cy="11030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7359480" y="2777760"/>
            <a:ext cx="1030320" cy="1103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5516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折出面积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正方形的边长为多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81480" y="1719360"/>
            <a:ext cx="1008000" cy="10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62400" y="1719360"/>
            <a:ext cx="1008000" cy="10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016680" y="1557360"/>
            <a:ext cx="1511280" cy="1440000"/>
          </a:xfrm>
          <a:prstGeom prst="line">
            <a:avLst/>
          </a:prstGeom>
          <a:ln cap="rnd" w="475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66000" y="2617920"/>
            <a:ext cx="1549080" cy="1512720"/>
          </a:xfrm>
          <a:prstGeom prst="line">
            <a:avLst/>
          </a:prstGeom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093080" y="2636640"/>
            <a:ext cx="1511280" cy="1439640"/>
          </a:xfrm>
          <a:prstGeom prst="line">
            <a:avLst/>
          </a:prstGeom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7054920" y="1450800"/>
            <a:ext cx="1582560" cy="1656000"/>
          </a:xfrm>
          <a:prstGeom prst="line">
            <a:avLst/>
          </a:prstGeom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812000" y="1844640"/>
            <a:ext cx="576360" cy="581400"/>
            <a:chOff x="7812000" y="1844640"/>
            <a:chExt cx="576360" cy="581400"/>
          </a:xfrm>
        </p:grpSpPr>
        <p:grpSp>
          <p:nvGrpSpPr>
            <p:cNvPr id="126" name=""/>
            <p:cNvGrpSpPr/>
            <p:nvPr/>
          </p:nvGrpSpPr>
          <p:grpSpPr>
            <a:xfrm>
              <a:off x="7812000" y="1947960"/>
              <a:ext cx="505080" cy="318960"/>
              <a:chOff x="7812000" y="1947960"/>
              <a:chExt cx="505080" cy="318960"/>
            </a:xfrm>
          </p:grpSpPr>
          <p:sp>
            <p:nvSpPr>
              <p:cNvPr id="127" name=""/>
              <p:cNvSpPr/>
              <p:nvPr/>
            </p:nvSpPr>
            <p:spPr>
              <a:xfrm flipV="1">
                <a:off x="7812000" y="2154240"/>
                <a:ext cx="55800" cy="2376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832160" y="2153160"/>
                <a:ext cx="115920" cy="11340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7957800" y="1947960"/>
                <a:ext cx="105120" cy="31896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063280" y="1947960"/>
                <a:ext cx="253800" cy="108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956720" y="18446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24000" y="260280"/>
            <a:ext cx="5935680" cy="682200"/>
            <a:chOff x="324000" y="260280"/>
            <a:chExt cx="5935680" cy="682200"/>
          </a:xfrm>
        </p:grpSpPr>
        <p:sp>
          <p:nvSpPr>
            <p:cNvPr id="133" name=""/>
            <p:cNvSpPr/>
            <p:nvPr/>
          </p:nvSpPr>
          <p:spPr>
            <a:xfrm>
              <a:off x="705240" y="299880"/>
              <a:ext cx="555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 </a:t>
              </a:r>
              <a:r>
                <a:rPr b="1" lang="zh-CN" sz="3600" spc="-1" strike="noStrike" u="sng">
                  <a:solidFill>
                    <a:srgbClr val="333399"/>
                  </a:solidFill>
                  <a:uFillTx/>
                  <a:latin typeface="华文行楷"/>
                  <a:ea typeface="华文行楷"/>
                </a:rPr>
                <a:t>      </a:t>
              </a:r>
              <a:r>
                <a:rPr b="1" lang="zh-CN" sz="3600" spc="-1" strike="noStrike" u="sng">
                  <a:solidFill>
                    <a:srgbClr val="333399"/>
                  </a:solidFill>
                  <a:uFillTx/>
                  <a:latin typeface="华文行楷"/>
                  <a:ea typeface="华文行楷"/>
                </a:rPr>
                <a:t>有多大</a:t>
              </a:r>
              <a:r>
                <a:rPr b="1" lang="zh-CN" sz="3600" spc="-1" strike="noStrike" u="sng">
                  <a:solidFill>
                    <a:srgbClr val="333399"/>
                  </a:solidFill>
                  <a:uFillTx/>
                  <a:latin typeface="楷体_GB2312"/>
                  <a:ea typeface="楷体_GB2312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324000" y="349200"/>
              <a:ext cx="53496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146600" y="26028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787680" y="279000"/>
              <a:ext cx="791640" cy="503280"/>
              <a:chOff x="787680" y="279000"/>
              <a:chExt cx="791640" cy="503280"/>
            </a:xfrm>
          </p:grpSpPr>
          <p:sp>
            <p:nvSpPr>
              <p:cNvPr id="137" name=""/>
              <p:cNvSpPr/>
              <p:nvPr/>
            </p:nvSpPr>
            <p:spPr>
              <a:xfrm flipV="1">
                <a:off x="787680" y="604800"/>
                <a:ext cx="87480" cy="3744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19360" y="603360"/>
                <a:ext cx="181800" cy="17892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1016640" y="279000"/>
                <a:ext cx="164880" cy="50292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81520" y="279360"/>
                <a:ext cx="397800" cy="180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5924520" y="-100080"/>
            <a:ext cx="2751120" cy="6697800"/>
            <a:chOff x="5924520" y="-100080"/>
            <a:chExt cx="2751120" cy="6697800"/>
          </a:xfrm>
        </p:grpSpPr>
        <p:sp>
          <p:nvSpPr>
            <p:cNvPr id="142" name=""/>
            <p:cNvSpPr/>
            <p:nvPr/>
          </p:nvSpPr>
          <p:spPr>
            <a:xfrm>
              <a:off x="6310440" y="115920"/>
              <a:ext cx="2087280" cy="2087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24520" y="1177920"/>
              <a:ext cx="2736720" cy="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6600" y="-100080"/>
              <a:ext cx="0" cy="252108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9520" y="154080"/>
              <a:ext cx="1008000" cy="10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76960" y="2306520"/>
              <a:ext cx="2087640" cy="2087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2000" y="3346560"/>
              <a:ext cx="2663640" cy="7128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46880" y="2131920"/>
              <a:ext cx="0" cy="252108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78400" y="3341520"/>
              <a:ext cx="1030320" cy="110340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6287760" y="2247840"/>
              <a:ext cx="1068120" cy="110340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0800000">
              <a:off x="7365960" y="2280960"/>
              <a:ext cx="1030320" cy="110340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7383240" y="3342960"/>
              <a:ext cx="1030320" cy="110340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96040" y="4510080"/>
              <a:ext cx="2087640" cy="2087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 rot="2700000">
            <a:off x="6579720" y="2584440"/>
            <a:ext cx="1584360" cy="1584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96040" y="4513320"/>
            <a:ext cx="2087640" cy="2087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15120" y="146160"/>
            <a:ext cx="106524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427200" y="1106640"/>
            <a:ext cx="494280" cy="600120"/>
            <a:chOff x="3427200" y="1106640"/>
            <a:chExt cx="494280" cy="600120"/>
          </a:xfrm>
        </p:grpSpPr>
        <p:sp>
          <p:nvSpPr>
            <p:cNvPr id="158" name=""/>
            <p:cNvSpPr/>
            <p:nvPr/>
          </p:nvSpPr>
          <p:spPr>
            <a:xfrm>
              <a:off x="3427200" y="1125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34200" y="110664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84040" y="1090440"/>
            <a:ext cx="480600" cy="590760"/>
            <a:chOff x="1184040" y="1090440"/>
            <a:chExt cx="480600" cy="590760"/>
          </a:xfrm>
        </p:grpSpPr>
        <p:sp>
          <p:nvSpPr>
            <p:cNvPr id="161" name=""/>
            <p:cNvSpPr/>
            <p:nvPr/>
          </p:nvSpPr>
          <p:spPr>
            <a:xfrm>
              <a:off x="1184040" y="10998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7360" y="109044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544760" y="1128600"/>
            <a:ext cx="5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979640" y="1052640"/>
            <a:ext cx="1053360" cy="638640"/>
            <a:chOff x="1979640" y="1052640"/>
            <a:chExt cx="1053360" cy="638640"/>
          </a:xfrm>
        </p:grpSpPr>
        <p:sp>
          <p:nvSpPr>
            <p:cNvPr id="165" name=""/>
            <p:cNvSpPr/>
            <p:nvPr/>
          </p:nvSpPr>
          <p:spPr>
            <a:xfrm>
              <a:off x="2368440" y="11098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190600" y="1203480"/>
              <a:ext cx="504360" cy="318960"/>
              <a:chOff x="2190600" y="1203480"/>
              <a:chExt cx="504360" cy="31896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2190600" y="1409760"/>
                <a:ext cx="55800" cy="2376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10760" y="1408680"/>
                <a:ext cx="115920" cy="11340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336400" y="1203480"/>
                <a:ext cx="105120" cy="31896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41520" y="1203480"/>
                <a:ext cx="253440" cy="108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1979640" y="1087560"/>
              <a:ext cx="10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    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45720" y="105264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884680" y="1144440"/>
            <a:ext cx="5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4480" y="1068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5400" y="17384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187280" y="1700280"/>
            <a:ext cx="3005280" cy="619560"/>
            <a:chOff x="1187280" y="1700280"/>
            <a:chExt cx="3005280" cy="619560"/>
          </a:xfrm>
        </p:grpSpPr>
        <p:grpSp>
          <p:nvGrpSpPr>
            <p:cNvPr id="177" name=""/>
            <p:cNvGrpSpPr/>
            <p:nvPr/>
          </p:nvGrpSpPr>
          <p:grpSpPr>
            <a:xfrm>
              <a:off x="2160720" y="1738440"/>
              <a:ext cx="603000" cy="581400"/>
              <a:chOff x="2160720" y="1738440"/>
              <a:chExt cx="603000" cy="581400"/>
            </a:xfrm>
          </p:grpSpPr>
          <p:sp>
            <p:nvSpPr>
              <p:cNvPr id="178" name=""/>
              <p:cNvSpPr/>
              <p:nvPr/>
            </p:nvSpPr>
            <p:spPr>
              <a:xfrm>
                <a:off x="2332080" y="173844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2160720" y="1832040"/>
                <a:ext cx="504360" cy="318960"/>
                <a:chOff x="2160720" y="1832040"/>
                <a:chExt cx="504360" cy="318960"/>
              </a:xfrm>
            </p:grpSpPr>
            <p:sp>
              <p:nvSpPr>
                <p:cNvPr id="180" name=""/>
                <p:cNvSpPr/>
                <p:nvPr/>
              </p:nvSpPr>
              <p:spPr>
                <a:xfrm flipV="1">
                  <a:off x="2160720" y="2038320"/>
                  <a:ext cx="55800" cy="23760"/>
                </a:xfrm>
                <a:prstGeom prst="line">
                  <a:avLst/>
                </a:prstGeom>
                <a:ln w="41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180880" y="2037240"/>
                  <a:ext cx="115920" cy="113400"/>
                </a:xfrm>
                <a:prstGeom prst="line">
                  <a:avLst/>
                </a:prstGeom>
                <a:ln w="41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2306520" y="1832040"/>
                  <a:ext cx="105120" cy="318960"/>
                </a:xfrm>
                <a:prstGeom prst="line">
                  <a:avLst/>
                </a:prstGeom>
                <a:ln w="41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411640" y="1832040"/>
                  <a:ext cx="253440" cy="1080"/>
                </a:xfrm>
                <a:prstGeom prst="line">
                  <a:avLst/>
                </a:prstGeom>
                <a:ln w="41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" name=""/>
            <p:cNvSpPr/>
            <p:nvPr/>
          </p:nvSpPr>
          <p:spPr>
            <a:xfrm>
              <a:off x="1521000" y="1703520"/>
              <a:ext cx="53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8080" y="1738440"/>
              <a:ext cx="53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87280" y="1700280"/>
              <a:ext cx="7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00560" y="172260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6320" y="23907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941480" y="2368440"/>
            <a:ext cx="1053360" cy="638640"/>
            <a:chOff x="1941480" y="2368440"/>
            <a:chExt cx="1053360" cy="638640"/>
          </a:xfrm>
        </p:grpSpPr>
        <p:sp>
          <p:nvSpPr>
            <p:cNvPr id="190" name=""/>
            <p:cNvSpPr/>
            <p:nvPr/>
          </p:nvSpPr>
          <p:spPr>
            <a:xfrm>
              <a:off x="2330280" y="24256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152440" y="2519280"/>
              <a:ext cx="504360" cy="318960"/>
              <a:chOff x="2152440" y="2519280"/>
              <a:chExt cx="504360" cy="318960"/>
            </a:xfrm>
          </p:grpSpPr>
          <p:sp>
            <p:nvSpPr>
              <p:cNvPr id="192" name=""/>
              <p:cNvSpPr/>
              <p:nvPr/>
            </p:nvSpPr>
            <p:spPr>
              <a:xfrm flipV="1">
                <a:off x="2152440" y="2725560"/>
                <a:ext cx="55800" cy="2376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172600" y="2724480"/>
                <a:ext cx="115920" cy="11340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2298240" y="2519280"/>
                <a:ext cx="105120" cy="31896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403360" y="2519280"/>
                <a:ext cx="253440" cy="108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1941480" y="2403360"/>
              <a:ext cx="10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    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07560" y="236844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549800" y="2406600"/>
            <a:ext cx="1842120" cy="584640"/>
            <a:chOff x="1549800" y="2406600"/>
            <a:chExt cx="1842120" cy="584640"/>
          </a:xfrm>
        </p:grpSpPr>
        <p:sp>
          <p:nvSpPr>
            <p:cNvPr id="199" name=""/>
            <p:cNvSpPr/>
            <p:nvPr/>
          </p:nvSpPr>
          <p:spPr>
            <a:xfrm>
              <a:off x="1549800" y="2406600"/>
              <a:ext cx="53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60920" y="2409840"/>
              <a:ext cx="53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900000" y="2344680"/>
            <a:ext cx="856800" cy="638640"/>
            <a:chOff x="900000" y="2344680"/>
            <a:chExt cx="856800" cy="638640"/>
          </a:xfrm>
        </p:grpSpPr>
        <p:sp>
          <p:nvSpPr>
            <p:cNvPr id="202" name=""/>
            <p:cNvSpPr/>
            <p:nvPr/>
          </p:nvSpPr>
          <p:spPr>
            <a:xfrm>
              <a:off x="900000" y="2401920"/>
              <a:ext cx="7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69520" y="234468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400560" y="2435400"/>
            <a:ext cx="861120" cy="586080"/>
            <a:chOff x="3400560" y="2435400"/>
            <a:chExt cx="861120" cy="586080"/>
          </a:xfrm>
        </p:grpSpPr>
        <p:sp>
          <p:nvSpPr>
            <p:cNvPr id="205" name=""/>
            <p:cNvSpPr/>
            <p:nvPr/>
          </p:nvSpPr>
          <p:spPr>
            <a:xfrm>
              <a:off x="3400560" y="24400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74400" y="243540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76320" y="30654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895320" y="3024360"/>
            <a:ext cx="3532320" cy="622440"/>
            <a:chOff x="895320" y="3024360"/>
            <a:chExt cx="3532320" cy="622440"/>
          </a:xfrm>
        </p:grpSpPr>
        <p:grpSp>
          <p:nvGrpSpPr>
            <p:cNvPr id="209" name=""/>
            <p:cNvGrpSpPr/>
            <p:nvPr/>
          </p:nvGrpSpPr>
          <p:grpSpPr>
            <a:xfrm>
              <a:off x="2203560" y="3065400"/>
              <a:ext cx="603000" cy="581400"/>
              <a:chOff x="2203560" y="3065400"/>
              <a:chExt cx="603000" cy="581400"/>
            </a:xfrm>
          </p:grpSpPr>
          <p:sp>
            <p:nvSpPr>
              <p:cNvPr id="210" name=""/>
              <p:cNvSpPr/>
              <p:nvPr/>
            </p:nvSpPr>
            <p:spPr>
              <a:xfrm>
                <a:off x="2374920" y="306540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2203560" y="3159000"/>
                <a:ext cx="504360" cy="318960"/>
                <a:chOff x="2203560" y="3159000"/>
                <a:chExt cx="504360" cy="318960"/>
              </a:xfrm>
            </p:grpSpPr>
            <p:sp>
              <p:nvSpPr>
                <p:cNvPr id="212" name=""/>
                <p:cNvSpPr/>
                <p:nvPr/>
              </p:nvSpPr>
              <p:spPr>
                <a:xfrm flipV="1">
                  <a:off x="2203560" y="3365280"/>
                  <a:ext cx="55800" cy="23760"/>
                </a:xfrm>
                <a:prstGeom prst="line">
                  <a:avLst/>
                </a:prstGeom>
                <a:ln w="41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223720" y="3364200"/>
                  <a:ext cx="115920" cy="113400"/>
                </a:xfrm>
                <a:prstGeom prst="line">
                  <a:avLst/>
                </a:prstGeom>
                <a:ln w="41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V="1">
                  <a:off x="2349360" y="3159000"/>
                  <a:ext cx="105120" cy="318960"/>
                </a:xfrm>
                <a:prstGeom prst="line">
                  <a:avLst/>
                </a:prstGeom>
                <a:ln w="41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454480" y="3159000"/>
                  <a:ext cx="253440" cy="1080"/>
                </a:xfrm>
                <a:prstGeom prst="line">
                  <a:avLst/>
                </a:prstGeom>
                <a:ln w="41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6" name=""/>
            <p:cNvSpPr/>
            <p:nvPr/>
          </p:nvSpPr>
          <p:spPr>
            <a:xfrm>
              <a:off x="2849760" y="3043080"/>
              <a:ext cx="53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63840" y="3027240"/>
              <a:ext cx="53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90840" y="3043080"/>
              <a:ext cx="103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95320" y="3024360"/>
              <a:ext cx="93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73600" y="349740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… 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27120" y="4172040"/>
            <a:ext cx="4232160" cy="630360"/>
            <a:chOff x="627120" y="4172040"/>
            <a:chExt cx="4232160" cy="630360"/>
          </a:xfrm>
        </p:grpSpPr>
        <p:grpSp>
          <p:nvGrpSpPr>
            <p:cNvPr id="222" name=""/>
            <p:cNvGrpSpPr/>
            <p:nvPr/>
          </p:nvGrpSpPr>
          <p:grpSpPr>
            <a:xfrm>
              <a:off x="627120" y="4172040"/>
              <a:ext cx="2748960" cy="630360"/>
              <a:chOff x="627120" y="4172040"/>
              <a:chExt cx="2748960" cy="630360"/>
            </a:xfrm>
          </p:grpSpPr>
          <p:sp>
            <p:nvSpPr>
              <p:cNvPr id="223" name=""/>
              <p:cNvSpPr/>
              <p:nvPr/>
            </p:nvSpPr>
            <p:spPr>
              <a:xfrm>
                <a:off x="627120" y="4172040"/>
                <a:ext cx="1439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1.41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2200320" y="4221000"/>
                <a:ext cx="603000" cy="581400"/>
                <a:chOff x="2200320" y="4221000"/>
                <a:chExt cx="603000" cy="581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2371680" y="4221000"/>
                  <a:ext cx="4316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6" name=""/>
                <p:cNvGrpSpPr/>
                <p:nvPr/>
              </p:nvGrpSpPr>
              <p:grpSpPr>
                <a:xfrm>
                  <a:off x="2200320" y="4314600"/>
                  <a:ext cx="504360" cy="318960"/>
                  <a:chOff x="2200320" y="4314600"/>
                  <a:chExt cx="504360" cy="3189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flipV="1">
                    <a:off x="2200320" y="4520880"/>
                    <a:ext cx="55800" cy="23760"/>
                  </a:xfrm>
                  <a:prstGeom prst="line">
                    <a:avLst/>
                  </a:prstGeom>
                  <a:ln w="41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2220480" y="4519800"/>
                    <a:ext cx="115920" cy="113400"/>
                  </a:xfrm>
                  <a:prstGeom prst="line">
                    <a:avLst/>
                  </a:prstGeom>
                  <a:ln w="41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V="1">
                    <a:off x="2346120" y="4314600"/>
                    <a:ext cx="105120" cy="318960"/>
                  </a:xfrm>
                  <a:prstGeom prst="line">
                    <a:avLst/>
                  </a:prstGeom>
                  <a:ln w="41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451240" y="4314600"/>
                    <a:ext cx="253440" cy="1080"/>
                  </a:xfrm>
                  <a:prstGeom prst="line">
                    <a:avLst/>
                  </a:prstGeom>
                  <a:ln w="41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1" name=""/>
              <p:cNvSpPr/>
              <p:nvPr/>
            </p:nvSpPr>
            <p:spPr>
              <a:xfrm>
                <a:off x="2845080" y="4221000"/>
                <a:ext cx="531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563840" y="4187880"/>
                <a:ext cx="531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19640" y="4187880"/>
              <a:ext cx="14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.4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24000" y="5133960"/>
            <a:ext cx="5325840" cy="748080"/>
            <a:chOff x="324000" y="5133960"/>
            <a:chExt cx="5325840" cy="748080"/>
          </a:xfrm>
        </p:grpSpPr>
        <p:grpSp>
          <p:nvGrpSpPr>
            <p:cNvPr id="235" name=""/>
            <p:cNvGrpSpPr/>
            <p:nvPr/>
          </p:nvGrpSpPr>
          <p:grpSpPr>
            <a:xfrm>
              <a:off x="324000" y="5300640"/>
              <a:ext cx="603000" cy="581400"/>
              <a:chOff x="324000" y="5300640"/>
              <a:chExt cx="603000" cy="581400"/>
            </a:xfrm>
          </p:grpSpPr>
          <p:sp>
            <p:nvSpPr>
              <p:cNvPr id="236" name=""/>
              <p:cNvSpPr/>
              <p:nvPr/>
            </p:nvSpPr>
            <p:spPr>
              <a:xfrm>
                <a:off x="495360" y="530064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324000" y="5394240"/>
                <a:ext cx="504360" cy="318960"/>
                <a:chOff x="324000" y="5394240"/>
                <a:chExt cx="504360" cy="318960"/>
              </a:xfrm>
            </p:grpSpPr>
            <p:sp>
              <p:nvSpPr>
                <p:cNvPr id="238" name=""/>
                <p:cNvSpPr/>
                <p:nvPr/>
              </p:nvSpPr>
              <p:spPr>
                <a:xfrm flipV="1">
                  <a:off x="324000" y="5600520"/>
                  <a:ext cx="55800" cy="23760"/>
                </a:xfrm>
                <a:prstGeom prst="line">
                  <a:avLst/>
                </a:prstGeom>
                <a:ln w="41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44160" y="5599440"/>
                  <a:ext cx="115920" cy="113400"/>
                </a:xfrm>
                <a:prstGeom prst="line">
                  <a:avLst/>
                </a:prstGeom>
                <a:ln w="41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469800" y="5394240"/>
                  <a:ext cx="105120" cy="318960"/>
                </a:xfrm>
                <a:prstGeom prst="line">
                  <a:avLst/>
                </a:prstGeom>
                <a:ln w="41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74920" y="5394240"/>
                  <a:ext cx="253440" cy="1080"/>
                </a:xfrm>
                <a:prstGeom prst="line">
                  <a:avLst/>
                </a:prstGeom>
                <a:ln w="41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2" name=""/>
            <p:cNvSpPr/>
            <p:nvPr/>
          </p:nvSpPr>
          <p:spPr>
            <a:xfrm>
              <a:off x="925200" y="52498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07240" y="5300640"/>
              <a:ext cx="364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.41421356237309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11920" y="513396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4847040" y="2374920"/>
            <a:ext cx="66780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逼近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58920" y="5877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无限不循环小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5334120" y="4495680"/>
            <a:ext cx="3809880" cy="2362320"/>
            <a:chOff x="5334120" y="4495680"/>
            <a:chExt cx="3809880" cy="2362320"/>
          </a:xfrm>
        </p:grpSpPr>
        <p:sp>
          <p:nvSpPr>
            <p:cNvPr id="248" name=""/>
            <p:cNvSpPr/>
            <p:nvPr/>
          </p:nvSpPr>
          <p:spPr>
            <a:xfrm>
              <a:off x="5410080" y="4495680"/>
              <a:ext cx="3733920" cy="2362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5334120" y="4876920"/>
                  <a:ext cx="3809880" cy="14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已知非负数</m:t>
                          </m:r>
                          <m:r>
                            <m:t xml:space="preserve">a</m:t>
                          </m:r>
                          <m:r>
                            <m:t xml:space="preserve">、</m:t>
                          </m:r>
                          <m:r>
                            <m:t xml:space="preserve">b</m:t>
                          </m:r>
                        </m:e>
                        <m:e>
                          <m:sSup>
                            <m:e>
                              <m:r>
                                <m:t xml:space="preserve">若a</m:t>
                              </m:r>
                            </m:e>
                            <m:sup>
                              <m:r>
                                <m:t xml:space="preserve">２</m:t>
                              </m:r>
                            </m:sup>
                          </m:sSup>
                          <m:r>
                            <m:t xml:space="preserve">＞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２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，则</m:t>
                          </m:r>
                          <m:r>
                            <m:t xml:space="preserve">a</m:t>
                          </m:r>
                          <m:r>
                            <m:t xml:space="preserve">＞</m:t>
                          </m:r>
                          <m:r>
                            <m:t xml:space="preserve">b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0" name=""/>
          <p:cNvSpPr/>
          <p:nvPr/>
        </p:nvSpPr>
        <p:spPr>
          <a:xfrm>
            <a:off x="457200" y="152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试比较下列各组数的大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295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219320" y="990720"/>
                <a:ext cx="22860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与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3962520" y="1143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181480" y="914400"/>
                <a:ext cx="22860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与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447920" y="1897200"/>
                <a:ext cx="533376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213372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447920" y="2743200"/>
                <a:ext cx="25146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4</m:t>
                    </m:r>
                    <m:r>
                      <m:t xml:space="preserve">&g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58" name=""/>
          <p:cNvGrpSpPr/>
          <p:nvPr/>
        </p:nvGrpSpPr>
        <p:grpSpPr>
          <a:xfrm>
            <a:off x="0" y="3809880"/>
            <a:ext cx="5409720" cy="1047600"/>
            <a:chOff x="0" y="3809880"/>
            <a:chExt cx="5409720" cy="1047600"/>
          </a:xfrm>
        </p:grpSpPr>
        <p:sp>
          <p:nvSpPr>
            <p:cNvPr id="259" name=""/>
            <p:cNvSpPr/>
            <p:nvPr/>
          </p:nvSpPr>
          <p:spPr>
            <a:xfrm>
              <a:off x="0" y="4062240"/>
              <a:ext cx="219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906840" y="3809880"/>
                  <a:ext cx="4502880" cy="104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∵</m:t>
                      </m:r>
                      <m:r>
                        <m:t xml:space="preserve">(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7,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066680" y="4888080"/>
                <a:ext cx="26672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&g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066680" y="5776920"/>
                <a:ext cx="3124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&gt;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3" name=""/>
          <p:cNvGraphicFramePr/>
          <p:nvPr/>
        </p:nvGraphicFramePr>
        <p:xfrm>
          <a:off x="7086600" y="2057400"/>
          <a:ext cx="20574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057400"/>
                    <a:ext cx="20574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07920" y="-49320"/>
            <a:ext cx="316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2.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利用计算器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0" y="636480"/>
                <a:ext cx="22860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5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0" y="1447920"/>
                <a:ext cx="1981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0" y="2286000"/>
                <a:ext cx="17287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0" y="3124080"/>
                <a:ext cx="216072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2500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4191120" y="550800"/>
                <a:ext cx="220968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4191120" y="1395360"/>
                <a:ext cx="19810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267080" y="2257560"/>
                <a:ext cx="20574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211840" y="685800"/>
            <a:ext cx="12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隶书"/>
              </a:rPr>
              <a:t>0.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83240" y="152388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隶书"/>
              </a:rPr>
              <a:t>2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983600" y="236232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隶书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88520" y="31510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隶书"/>
              </a:rPr>
              <a:t>2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02960" y="457200"/>
            <a:ext cx="157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0.7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02960" y="1447920"/>
            <a:ext cx="12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7.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02960" y="2362320"/>
            <a:ext cx="12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79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04920" y="3995640"/>
                <a:ext cx="8839080" cy="14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你能直接说出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0000</m:t>
                            </m:r>
                          </m:e>
                        </m:rad>
                        <m:r>
                          <m:t xml:space="preserve">与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000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的值吗？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你发现其中有什么规律？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0" y="5334120"/>
            <a:ext cx="10210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开方数的小数点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向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或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它的算术平方根的小数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向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或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57200" y="12952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用计算器计算下列各题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保留四个有效数字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4000" y="342900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比一比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看谁算的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914400" y="4083120"/>
          <a:ext cx="7772400" cy="27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083120"/>
                    <a:ext cx="777240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762120" y="2438280"/>
          <a:ext cx="7010280" cy="10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438280"/>
                    <a:ext cx="701028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 txBox="1"/>
          <p:nvPr/>
        </p:nvSpPr>
        <p:spPr>
          <a:xfrm>
            <a:off x="1143000" y="380880"/>
            <a:ext cx="624852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宋体"/>
              </a:rPr>
              <a:t>赶快试一下吧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251460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0.22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24480" y="33526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0.707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9-26T08:21:35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